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39F-925C-46C3-809A-ACFEDE8D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23B-F09C-4D99-ADFD-DC1F3489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216-2778-4552-8D5F-B24F9ECE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DF4-5FE8-49A8-BC86-5B215057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499-CFF4-460B-8D16-2B088B3E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122-0D0A-43AB-AD14-8A1A4CE3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EAE-7BBD-4036-815F-FADE2616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F86-A845-45F6-B2C2-99081BBC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50B-F49C-4DD0-9BBE-1C3E3B67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C08-59D6-4C24-BB8C-82DD036D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29C-CE51-43CA-BEF0-BCBD68E8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36F-B1BF-4DFE-A657-100D43BA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7846-E700-47CD-AFF6-E9892BD340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БЕРЕЗО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БЕРЕЗОВ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проекту решению Совета народных депутатов Березовского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00.12.2024г. №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Березовского сельского поселения на 2025 год и на плановый период 2026 и 2027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000160" y="928800"/>
          <a:ext cx="5194440" cy="2752560"/>
        </p:xfrm>
        <a:graphic>
          <a:graphicData uri="http://schemas.openxmlformats.org/drawingml/2006/table">
            <a:tbl>
              <a:tblPr/>
              <a:tblGrid>
                <a:gridCol w="609840"/>
                <a:gridCol w="3213000"/>
                <a:gridCol w="609480"/>
                <a:gridCol w="76212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5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3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9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7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071800" y="857160"/>
          <a:ext cx="5194080" cy="275292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609840"/>
                <a:gridCol w="761760"/>
              </a:tblGrid>
              <a:tr h="381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94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99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2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71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12" descr=""/>
          <p:cNvPicPr/>
          <p:nvPr/>
        </p:nvPicPr>
        <p:blipFill>
          <a:blip r:embed="rId2"/>
          <a:stretch/>
        </p:blipFill>
        <p:spPr>
          <a:xfrm>
            <a:off x="420840" y="3565440"/>
            <a:ext cx="8442000" cy="31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10" descr=""/>
          <p:cNvPicPr/>
          <p:nvPr/>
        </p:nvPicPr>
        <p:blipFill>
          <a:blip r:embed="rId3"/>
          <a:stretch/>
        </p:blipFill>
        <p:spPr>
          <a:xfrm>
            <a:off x="566640" y="4206960"/>
            <a:ext cx="8047080" cy="24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Березов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054080"/>
            <a:ext cx="8899200" cy="24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Березо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Березов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Шарапова Елена Александ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396247, Воронежская область, Аннинский район, село Березовка, улица Советская, дом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8-47346-433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bereza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Березовского сельского поселения на 2025 год и на плановый период 2026 и 2027 годов сформирован в программном формате. Всего на данный момент в Березовском сель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572000"/>
            <a:ext cx="70722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Развитие Березовского сельского поселения и управление финансами в поселении»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Березов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14240" y="1071720"/>
          <a:ext cx="7556760" cy="1447560"/>
        </p:xfrm>
        <a:graphic>
          <a:graphicData uri="http://schemas.openxmlformats.org/drawingml/2006/table">
            <a:tbl>
              <a:tblPr/>
              <a:tblGrid>
                <a:gridCol w="1511280"/>
                <a:gridCol w="1511280"/>
                <a:gridCol w="1511640"/>
                <a:gridCol w="1511280"/>
                <a:gridCol w="1511280"/>
              </a:tblGrid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БЮДЖ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1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93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98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5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3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09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48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98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38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06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54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9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Березо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28840" y="1214280"/>
          <a:ext cx="6095880" cy="11685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168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БЮДЖЕ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7 год ПРОЕК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89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6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27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 09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89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6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13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78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60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3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7" name="Диаграмма 14" descr=""/>
          <p:cNvPicPr/>
          <p:nvPr/>
        </p:nvPicPr>
        <p:blipFill>
          <a:blip r:embed="rId2"/>
          <a:stretch/>
        </p:blipFill>
        <p:spPr>
          <a:xfrm>
            <a:off x="920880" y="2852640"/>
            <a:ext cx="7034040" cy="275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237960" y="208080"/>
            <a:ext cx="8961480" cy="41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500040" y="3635280"/>
          <a:ext cx="8429760" cy="3127320"/>
        </p:xfrm>
        <a:graphic>
          <a:graphicData uri="http://schemas.openxmlformats.org/drawingml/2006/table">
            <a:tbl>
              <a:tblPr/>
              <a:tblGrid>
                <a:gridCol w="2809800"/>
                <a:gridCol w="2809800"/>
                <a:gridCol w="2810160"/>
              </a:tblGrid>
              <a:tr h="158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5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03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36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76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7" descr=""/>
          <p:cNvPicPr/>
          <p:nvPr/>
        </p:nvPicPr>
        <p:blipFill>
          <a:blip r:embed="rId2"/>
          <a:stretch/>
        </p:blipFill>
        <p:spPr>
          <a:xfrm>
            <a:off x="506520" y="781200"/>
            <a:ext cx="8130960" cy="565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7</cp:lastModifiedBy>
  <dcterms:modified xsi:type="dcterms:W3CDTF">2024-11-26T12:28:34Z</dcterms:modified>
  <cp:revision>61</cp:revision>
  <dc:subject/>
  <dc:title>Слайд 1</dc:title>
</cp:coreProperties>
</file>