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54C-EE4F-4234-AC6A-9D2F9968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427-B147-48A7-8DF3-65265927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75C-6186-43E5-8C92-0F97F4FD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E39-59CF-4098-8130-3F50CA21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AE5-AEEA-4E5C-9AF5-4A110E1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00D-9B05-4217-BF3D-BA440C44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D65-056B-40C6-A901-D3E0BFC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CDD-8B86-4D62-826A-B39504F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FA1-4906-45EB-9201-DF6F8B7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92F-1029-4582-86FB-C1CE149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C86-74D9-4863-BD20-6511427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A8A-E2E2-4259-A75F-5B94B51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4586-C1A7-4295-849F-6D75EA566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БЕРЕЗО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БЕРЕЗОВ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Березов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4.12.2024г. №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Березовского сельского поселения на 2025 год и на плановый период 2026 и 2027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000160" y="928800"/>
          <a:ext cx="5194440" cy="2752560"/>
        </p:xfrm>
        <a:graphic>
          <a:graphicData uri="http://schemas.openxmlformats.org/drawingml/2006/table">
            <a:tbl>
              <a:tblPr/>
              <a:tblGrid>
                <a:gridCol w="609840"/>
                <a:gridCol w="3213000"/>
                <a:gridCol w="609480"/>
                <a:gridCol w="76212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71800" y="857160"/>
          <a:ext cx="5194080" cy="275292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609840"/>
                <a:gridCol w="761760"/>
              </a:tblGrid>
              <a:tr h="381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2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2" descr=""/>
          <p:cNvPicPr/>
          <p:nvPr/>
        </p:nvPicPr>
        <p:blipFill>
          <a:blip r:embed="rId2"/>
          <a:stretch/>
        </p:blipFill>
        <p:spPr>
          <a:xfrm>
            <a:off x="420840" y="3565440"/>
            <a:ext cx="8442000" cy="31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0" descr=""/>
          <p:cNvPicPr/>
          <p:nvPr/>
        </p:nvPicPr>
        <p:blipFill>
          <a:blip r:embed="rId3"/>
          <a:stretch/>
        </p:blipFill>
        <p:spPr>
          <a:xfrm>
            <a:off x="566640" y="4206960"/>
            <a:ext cx="8047080" cy="24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Березо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Березо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Березо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Шарапова Елена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47, Воронежская область, Аннинский район, село Березовка, улица Советская, дом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-47346-433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bereza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Бюджет  Березовского сельского поселения на 2025 год и на плановый период 2026 и 2027 годов сформирован в программном формате. Всего на данный момент в Березов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Березовского сельского поселения и управление финансами в поселении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Березо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14240" y="1071720"/>
          <a:ext cx="7556760" cy="1447560"/>
        </p:xfrm>
        <a:graphic>
          <a:graphicData uri="http://schemas.openxmlformats.org/drawingml/2006/table">
            <a:tbl>
              <a:tblPr/>
              <a:tblGrid>
                <a:gridCol w="1511280"/>
                <a:gridCol w="1511280"/>
                <a:gridCol w="1511640"/>
                <a:gridCol w="1511280"/>
                <a:gridCol w="1511280"/>
              </a:tblGrid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9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9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5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0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48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9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3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06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5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9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Березо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28840" y="1214280"/>
          <a:ext cx="6095880" cy="1168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38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89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6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27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0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89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6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13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78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6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6" descr=""/>
          <p:cNvPicPr/>
          <p:nvPr/>
        </p:nvPicPr>
        <p:blipFill>
          <a:blip r:embed="rId2"/>
          <a:stretch/>
        </p:blipFill>
        <p:spPr>
          <a:xfrm>
            <a:off x="920880" y="2567160"/>
            <a:ext cx="703404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237960" y="208080"/>
            <a:ext cx="8961480" cy="41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00040" y="3635280"/>
          <a:ext cx="8429760" cy="312732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10160"/>
              </a:tblGrid>
              <a:tr h="1573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3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76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7" descr=""/>
          <p:cNvPicPr/>
          <p:nvPr/>
        </p:nvPicPr>
        <p:blipFill>
          <a:blip r:embed="rId2"/>
          <a:stretch/>
        </p:blipFill>
        <p:spPr>
          <a:xfrm>
            <a:off x="506520" y="781200"/>
            <a:ext cx="8130960" cy="565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7</cp:lastModifiedBy>
  <dcterms:modified xsi:type="dcterms:W3CDTF">2024-12-27T12:42:32Z</dcterms:modified>
  <cp:revision>63</cp:revision>
  <dc:subject/>
  <dc:title>Слайд 1</dc:title>
</cp:coreProperties>
</file>